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20.wmf" ContentType="image/x-wmf"/>
  <Override PartName="/ppt/media/image3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wmf" ContentType="image/x-wmf"/>
  <Override PartName="/ppt/media/image14.png" ContentType="image/png"/>
  <Override PartName="/ppt/media/image1.png" ContentType="image/png"/>
  <Override PartName="/ppt/media/image2.wmf" ContentType="image/x-wmf"/>
  <Override PartName="/ppt/media/image4.wmf" ContentType="image/x-wmf"/>
  <Override PartName="/ppt/media/image10.png" ContentType="image/png"/>
  <Override PartName="/ppt/media/image5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4E0A7-D2C9-455D-96C3-21F4B9FA306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l 44% de nuestras exportaciones a EE.UU. son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E.UU. absorbe el 40% de nuestras exportaciones de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Cabe destacar que la pobreza se redujo del </a:t>
            </a: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8% de la población en 1992 al 26% en el 2000. El ajuste ante la Crisis del Tequila también fue rápido en términos de pobreza: de 43% en 1995 se pasó a 35% en 1996 (tan solo en un añ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Como se puede ver, a partir de 1994 el desempleo ha presentado una tendencia decrecient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Este se ajustó rápidamente tras la Crisis del Tequila y luego de 1998, llegó a los niveles más bajos desde 1987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El NAFTA también permitió un rápido ajuste de los salarios reales tras dicha crisi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Mayores salarios en el sector exportador y también en el que compite con las importacion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pertura Comercial: promover competitivid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Reducción significativa de aranceles y demás restriccio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Trato no discriminatorio con empresas internacionales: atraer invers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n los 90 la inversión dio un salto, pero desde 1998 ha descendido, manteniéndose estable en los últimos añ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Necesitamos mayores niveles de inversión si queremos crecer a un ritmo de 7%, por ejemp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l TLC abre las puertas a la inversión directa extranj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A168-E6DC-4AA1-AB38-089975633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F467-C132-44CF-83B7-8060357D6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89CC-BC65-4666-AEA4-EEEBE71C8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4DB3-085A-4307-8A30-9E2608754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F6CB5-84FD-4D1B-93A7-D921CCB0B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77674-E187-455C-9A80-097C66C17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93E43-D868-42C0-ADC3-2493241B0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518E8-84B7-491B-8968-838D4B87E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7B9B2-0085-447D-8DE6-3B5DB13D2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48A5D-C4FF-4EFE-A1B9-7DED6F9CF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29A51-2985-4648-BEC6-53CF1F27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4AD4-79BB-4841-B6AC-A29592C03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E0BF0-B216-4288-8AC2-CF75E66DA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FE528-59D1-4549-A7ED-EE14EE48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03C92-7D5B-44C1-9E5C-8C4558655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E0A15-F9CC-4B86-8390-1C3A88B8E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77DE5-2EAE-4B6E-A409-148DB7554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A8AD-92F8-4927-90A2-A6BDCEEEE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9933-0392-4E28-B835-B0E123750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45E9-6125-451C-9C90-9E3A1E0E8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C5A3-6429-4DD7-8ABE-D55C84994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E5AB-A1DA-4C58-9F0D-8217491A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5FF3-FBCE-4F17-B675-1EEB1C4B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AFAA-39E7-4C44-8B98-27ABAE2C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88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82424"/>
                </a:gs>
                <a:gs pos="100000">
                  <a:srgbClr val="d40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87136-AB90-4FDC-9611-E471028AB44B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50000">
                  <a:srgbClr val="ffffff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d4002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249D7-14D9-42AA-ABC8-5C3AA079497C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image" Target="../media/image1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image" Target="../media/image15.wmf"/><Relationship Id="rId9" Type="http://schemas.openxmlformats.org/officeDocument/2006/relationships/image" Target="../media/image15.wmf"/><Relationship Id="rId10" Type="http://schemas.openxmlformats.org/officeDocument/2006/relationships/image" Target="../media/image15.wmf"/><Relationship Id="rId11" Type="http://schemas.openxmlformats.org/officeDocument/2006/relationships/image" Target="../media/image15.wmf"/><Relationship Id="rId12" Type="http://schemas.openxmlformats.org/officeDocument/2006/relationships/image" Target="../media/image15.wmf"/><Relationship Id="rId13" Type="http://schemas.openxmlformats.org/officeDocument/2006/relationships/image" Target="../media/image15.wmf"/><Relationship Id="rId14" Type="http://schemas.openxmlformats.org/officeDocument/2006/relationships/image" Target="../media/image15.wmf"/><Relationship Id="rId15" Type="http://schemas.openxmlformats.org/officeDocument/2006/relationships/image" Target="../media/image15.wmf"/><Relationship Id="rId16" Type="http://schemas.openxmlformats.org/officeDocument/2006/relationships/image" Target="../media/image15.wmf"/><Relationship Id="rId17" Type="http://schemas.openxmlformats.org/officeDocument/2006/relationships/image" Target="../media/image15.wmf"/><Relationship Id="rId18" Type="http://schemas.openxmlformats.org/officeDocument/2006/relationships/image" Target="../media/image15.wmf"/><Relationship Id="rId19" Type="http://schemas.openxmlformats.org/officeDocument/2006/relationships/image" Target="../media/image15.wmf"/><Relationship Id="rId20" Type="http://schemas.openxmlformats.org/officeDocument/2006/relationships/oleObject" Target="../embeddings/oleObject4.bin"/><Relationship Id="rId21" Type="http://schemas.openxmlformats.org/officeDocument/2006/relationships/image" Target="../media/image10.png"/><Relationship Id="rId22" Type="http://schemas.openxmlformats.org/officeDocument/2006/relationships/image" Target="../media/image15.wmf"/><Relationship Id="rId23" Type="http://schemas.openxmlformats.org/officeDocument/2006/relationships/image" Target="../media/image15.wmf"/><Relationship Id="rId24" Type="http://schemas.openxmlformats.org/officeDocument/2006/relationships/image" Target="../media/image15.wmf"/><Relationship Id="rId25" Type="http://schemas.openxmlformats.org/officeDocument/2006/relationships/image" Target="../media/image15.wmf"/><Relationship Id="rId26" Type="http://schemas.openxmlformats.org/officeDocument/2006/relationships/image" Target="../media/image15.wmf"/><Relationship Id="rId27" Type="http://schemas.openxmlformats.org/officeDocument/2006/relationships/image" Target="../media/image15.wmf"/><Relationship Id="rId28" Type="http://schemas.openxmlformats.org/officeDocument/2006/relationships/image" Target="../media/image15.wmf"/><Relationship Id="rId29" Type="http://schemas.openxmlformats.org/officeDocument/2006/relationships/image" Target="../media/image15.wmf"/><Relationship Id="rId30" Type="http://schemas.openxmlformats.org/officeDocument/2006/relationships/slideLayout" Target="../slideLayouts/slideLayout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cuerdo Multilateral: OMC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4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58" dur="5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62" dur="500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500"/>
                            </p:stCondLst>
                            <p:childTnLst>
                              <p:par>
                                <p:cTn id="46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66" dur="500"/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SISTEMA COMERCIO INTERNACION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GATT (1947) tuvo carácter provisional, solamente trataba reglas sobre reducción de aranceles de import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area reducción de aranceles de importación de productos industriales (excluido comercio agrícola y texti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ecanismos de negociación Rond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1994 se crea la Organización Mundial de Comercio OM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rincipio básico no discriminació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12520" indent="-282960" algn="just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Naci</a:t>
            </a: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ón Más Favoreci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12520" indent="-282960" algn="just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2000"/>
                            </p:stCondLst>
                            <p:childTnLst>
                              <p:par>
                                <p:cTn id="4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2500"/>
                            </p:stCondLst>
                            <p:childTnLst>
                              <p:par>
                                <p:cTn id="4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3000"/>
                            </p:stCondLst>
                            <p:childTnLst>
                              <p:par>
                                <p:cTn id="50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3500"/>
                            </p:stCondLst>
                            <p:childTnLst>
                              <p:par>
                                <p:cTn id="5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RESULTADOS DEL GATT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1835280" y="1666800"/>
            <a:ext cx="572112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RONDA URUGUAY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GATT reglas de conducta negativas: limitaciones de Estados para discriminar mercaderías en sus políticas comercial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Integración económica llevó la negociación a la esfera de la capacidad regulatoria de cada uno de los Estados (propiedad intelectual, servicios, inversiones, medio ambiente, trabajo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9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000"/>
                            </p:stCondLst>
                            <p:childTnLst>
                              <p:par>
                                <p:cTn id="5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CUERDOS OM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971640" y="1906560"/>
            <a:ext cx="7916760" cy="4786200"/>
            <a:chOff x="971640" y="1906560"/>
            <a:chExt cx="7916760" cy="4786200"/>
          </a:xfrm>
        </p:grpSpPr>
        <p:pic>
          <p:nvPicPr>
            <p:cNvPr id="452" name="" descr=""/>
            <p:cNvPicPr/>
            <p:nvPr/>
          </p:nvPicPr>
          <p:blipFill>
            <a:blip r:embed="rId1"/>
            <a:stretch/>
          </p:blipFill>
          <p:spPr>
            <a:xfrm>
              <a:off x="971640" y="1906560"/>
              <a:ext cx="7916760" cy="47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"/>
            <p:cNvSpPr txBox="1"/>
            <p:nvPr/>
          </p:nvSpPr>
          <p:spPr>
            <a:xfrm>
              <a:off x="971640" y="1906560"/>
              <a:ext cx="7916760" cy="4786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 algn="ctr">
                <a:spcBef>
                  <a:spcPts val="950"/>
                </a:spcBef>
                <a:buClr>
                  <a:srgbClr val="ffffff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4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2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8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PAISES MIEMBROS DE LA OM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971640" y="1906560"/>
            <a:ext cx="791676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5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59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PRINCIPIO NO DISCRIMINACIÓN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Nación Más Favorecida (NMF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500"/>
                            </p:stCondLst>
                            <p:childTnLst>
                              <p:par>
                                <p:cTn id="56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0" dur="500"/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000"/>
                            </p:stCondLst>
                            <p:childTnLst>
                              <p:par>
                                <p:cTn id="57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4" dur="500"/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NMF (MERCADERÍAS)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ncepto: (Artículo I del GATT 1994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ada miembro debe conceder a cualquier otro el tratamiento más favorable que concede a otro miembro respecto a las importaciones o exportaciones de productos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John Jacks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500"/>
                            </p:stCondLst>
                            <p:childTnLst>
                              <p:par>
                                <p:cTn id="5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1000"/>
                            </p:stCondLst>
                            <p:childTnLst>
                              <p:par>
                                <p:cTn id="5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500"/>
                            </p:stCondLst>
                            <p:childTnLst>
                              <p:par>
                                <p:cTn id="5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NACIÓN MÁS FAVORECID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333680" y="4723920"/>
            <a:ext cx="480996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169560" indent="-169560" algn="just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erú tiene 20% arancel trig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69560" indent="-169560" algn="just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ahoma"/>
              </a:rPr>
              <a:t>Perú otorga concesión arancelaria a Canadá (Trigo 0% Arancel de Importación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69560" indent="-169560" algn="just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8000"/>
                </a:solidFill>
                <a:latin typeface="Tahoma"/>
              </a:rPr>
              <a:t>Perú debe extender automáticamente al resto de países el 0% de Arancel de Importación para el Trigo de Europa, India y Chin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62" name=""/>
          <p:cNvGraphicFramePr/>
          <p:nvPr/>
        </p:nvGraphicFramePr>
        <p:xfrm>
          <a:off x="5797440" y="3213000"/>
          <a:ext cx="1511280" cy="13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7440" y="3213000"/>
                    <a:ext cx="151128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4" name="" descr=""/>
          <p:cNvPicPr/>
          <p:nvPr/>
        </p:nvPicPr>
        <p:blipFill>
          <a:blip r:embed="rId3"/>
          <a:stretch/>
        </p:blipFill>
        <p:spPr>
          <a:xfrm>
            <a:off x="1116000" y="4267080"/>
            <a:ext cx="1530360" cy="218628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6181560" y="3716280"/>
            <a:ext cx="76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hi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476360" y="515628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Per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4068720" y="3429000"/>
          <a:ext cx="1214640" cy="1295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6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68720" y="3429000"/>
                    <a:ext cx="12146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9" name=""/>
          <p:cNvGraphicFramePr/>
          <p:nvPr/>
        </p:nvGraphicFramePr>
        <p:xfrm>
          <a:off x="1116000" y="1806480"/>
          <a:ext cx="1800360" cy="1262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7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16000" y="1806480"/>
                    <a:ext cx="1800360" cy="12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1" name=""/>
          <p:cNvGraphicFramePr/>
          <p:nvPr/>
        </p:nvGraphicFramePr>
        <p:xfrm>
          <a:off x="3781440" y="1555920"/>
          <a:ext cx="2371680" cy="1819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7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781440" y="1555920"/>
                    <a:ext cx="237168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3" name=""/>
          <p:cNvSpPr/>
          <p:nvPr/>
        </p:nvSpPr>
        <p:spPr>
          <a:xfrm>
            <a:off x="1152360" y="20844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anad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213080" y="3811680"/>
            <a:ext cx="6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861080" y="2421000"/>
            <a:ext cx="86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Europ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H="1" flipV="1">
            <a:off x="1620360" y="2563560"/>
            <a:ext cx="289080" cy="2421000"/>
          </a:xfrm>
          <a:prstGeom prst="line">
            <a:avLst/>
          </a:prstGeom>
          <a:ln w="76320">
            <a:solidFill>
              <a:srgbClr val="ffff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2052720" y="2995200"/>
            <a:ext cx="1944720" cy="1800360"/>
          </a:xfrm>
          <a:prstGeom prst="line">
            <a:avLst/>
          </a:prstGeom>
          <a:ln w="76320">
            <a:solidFill>
              <a:srgbClr val="008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2052720" y="4147920"/>
            <a:ext cx="2519280" cy="1368360"/>
          </a:xfrm>
          <a:prstGeom prst="line">
            <a:avLst/>
          </a:prstGeom>
          <a:ln w="76320">
            <a:solidFill>
              <a:srgbClr val="008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2268360" y="4005360"/>
            <a:ext cx="4032360" cy="1800000"/>
          </a:xfrm>
          <a:prstGeom prst="line">
            <a:avLst/>
          </a:prstGeom>
          <a:ln w="76320">
            <a:solidFill>
              <a:srgbClr val="008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0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0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500"/>
                            </p:stCondLst>
                            <p:childTnLst>
                              <p:par>
                                <p:cTn id="6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7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500"/>
                            </p:stCondLst>
                            <p:childTnLst>
                              <p:par>
                                <p:cTn id="6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1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4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0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3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6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2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500"/>
                            </p:stCondLst>
                            <p:childTnLst>
                              <p:par>
                                <p:cTn id="6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6" dur="5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3000"/>
                            </p:stCondLst>
                            <p:childTnLst>
                              <p:par>
                                <p:cTn id="6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0" dur="500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3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3500"/>
                            </p:stCondLst>
                            <p:childTnLst>
                              <p:par>
                                <p:cTn id="6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7" dur="500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3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NMF (MERCADERÍAS) DESVÍ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istemas preferenci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Derechos antidumping y compensatorios (VI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láusula de escape (artículo XIX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xcepciones generales del artículo X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Areas de libre comercio y Uniones Aduaneras (artículo XXIV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Tratamiento especial y diferenciado para países no desarrollad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ódigos de la Ronda Tok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istema Generalizado de Preferenci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6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500"/>
                            </p:stCondLst>
                            <p:childTnLst>
                              <p:par>
                                <p:cTn id="66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7" dur="500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6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1" dur="500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1500"/>
                            </p:stCondLst>
                            <p:childTnLst>
                              <p:par>
                                <p:cTn id="67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5" dur="500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9" dur="500"/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2500"/>
                            </p:stCondLst>
                            <p:childTnLst>
                              <p:par>
                                <p:cTn id="68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3" dur="500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3000"/>
                            </p:stCondLst>
                            <p:childTnLst>
                              <p:par>
                                <p:cTn id="68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7" dur="500"/>
                                        <p:tgtEl>
                                          <p:spTgt spid="4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3500"/>
                            </p:stCondLst>
                            <p:childTnLst>
                              <p:par>
                                <p:cTn id="68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1" dur="500"/>
                                        <p:tgtEl>
                                          <p:spTgt spid="4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4000"/>
                            </p:stCondLst>
                            <p:childTnLst>
                              <p:par>
                                <p:cTn id="69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5" dur="500"/>
                                        <p:tgtEl>
                                          <p:spTgt spid="4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12920" y="2421000"/>
            <a:ext cx="831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TALLER DE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INTEGRACIÓN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COMERCIA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ahoma"/>
              </a:rPr>
              <a:t>Definición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: obligación por la cual el tratamiento de las importaciones, una vez que culminado los trámites aduaneros, sea igual que el recibido por las mercaderías producidas localm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ahoma"/>
              </a:rPr>
              <a:t>Objetivo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: evitar que las políticas tributarias y de regulación sean utilizadas en forma proteccionis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0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02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500"/>
                            </p:stCondLst>
                            <p:childTnLst>
                              <p:par>
                                <p:cTn id="7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1000"/>
                            </p:stCondLst>
                            <p:childTnLst>
                              <p:par>
                                <p:cTn id="7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4" name=""/>
          <p:cNvGraphicFramePr/>
          <p:nvPr/>
        </p:nvGraphicFramePr>
        <p:xfrm>
          <a:off x="5076720" y="1555920"/>
          <a:ext cx="2371680" cy="181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1555920"/>
                    <a:ext cx="237168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6" name=""/>
          <p:cNvGraphicFramePr/>
          <p:nvPr/>
        </p:nvGraphicFramePr>
        <p:xfrm>
          <a:off x="5364000" y="3429000"/>
          <a:ext cx="1214640" cy="129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64000" y="3429000"/>
                    <a:ext cx="12146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88" name="" descr=""/>
          <p:cNvPicPr/>
          <p:nvPr/>
        </p:nvPicPr>
        <p:blipFill>
          <a:blip r:embed="rId5"/>
          <a:stretch/>
        </p:blipFill>
        <p:spPr>
          <a:xfrm>
            <a:off x="1835280" y="4338720"/>
            <a:ext cx="1530360" cy="218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9" name=""/>
          <p:cNvGraphicFramePr/>
          <p:nvPr/>
        </p:nvGraphicFramePr>
        <p:xfrm>
          <a:off x="1692360" y="1879560"/>
          <a:ext cx="1800000" cy="1262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9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92360" y="1879560"/>
                    <a:ext cx="1800000" cy="12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2" name=""/>
          <p:cNvSpPr/>
          <p:nvPr/>
        </p:nvSpPr>
        <p:spPr>
          <a:xfrm>
            <a:off x="3492360" y="5086440"/>
            <a:ext cx="55087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Una vez traspasada la frontera el Perú debe dar tratamiento tributario y reglamentario a las naranjas de origen peruano y extranje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8"/>
          <a:stretch/>
        </p:blipFill>
        <p:spPr>
          <a:xfrm>
            <a:off x="4211640" y="3429000"/>
            <a:ext cx="312840" cy="30960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9"/>
          <a:stretch/>
        </p:blipFill>
        <p:spPr>
          <a:xfrm>
            <a:off x="2700360" y="4581360"/>
            <a:ext cx="312840" cy="30816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10"/>
          <a:stretch/>
        </p:blipFill>
        <p:spPr>
          <a:xfrm>
            <a:off x="5076720" y="2781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11"/>
          <a:stretch/>
        </p:blipFill>
        <p:spPr>
          <a:xfrm>
            <a:off x="2916360" y="5589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12"/>
          <a:stretch/>
        </p:blipFill>
        <p:spPr>
          <a:xfrm>
            <a:off x="2195640" y="4653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13"/>
          <a:stretch/>
        </p:blipFill>
        <p:spPr>
          <a:xfrm>
            <a:off x="4572000" y="4437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14"/>
          <a:stretch/>
        </p:blipFill>
        <p:spPr>
          <a:xfrm>
            <a:off x="5580000" y="4005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15"/>
          <a:stretch/>
        </p:blipFill>
        <p:spPr>
          <a:xfrm>
            <a:off x="2050920" y="3213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16"/>
          <a:stretch/>
        </p:blipFill>
        <p:spPr>
          <a:xfrm>
            <a:off x="2050920" y="2421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17"/>
          <a:stretch/>
        </p:blipFill>
        <p:spPr>
          <a:xfrm>
            <a:off x="2484360" y="57340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18"/>
          <a:stretch/>
        </p:blipFill>
        <p:spPr>
          <a:xfrm>
            <a:off x="2411280" y="5084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19"/>
          <a:stretch/>
        </p:blipFill>
        <p:spPr>
          <a:xfrm>
            <a:off x="2627280" y="5445000"/>
            <a:ext cx="360360" cy="36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5" name=""/>
          <p:cNvGraphicFramePr/>
          <p:nvPr/>
        </p:nvGraphicFramePr>
        <p:xfrm>
          <a:off x="7093080" y="3213000"/>
          <a:ext cx="1511280" cy="13683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506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7093080" y="3213000"/>
                    <a:ext cx="151128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7" name=""/>
          <p:cNvSpPr/>
          <p:nvPr/>
        </p:nvSpPr>
        <p:spPr>
          <a:xfrm>
            <a:off x="7477200" y="3716280"/>
            <a:ext cx="76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hi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170080" y="538632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Per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728720" y="213372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anad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508720" y="381168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156360" y="2421000"/>
            <a:ext cx="8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Europ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22"/>
          <a:stretch/>
        </p:blipFill>
        <p:spPr>
          <a:xfrm>
            <a:off x="3708360" y="4941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3" name="" descr=""/>
          <p:cNvPicPr/>
          <p:nvPr/>
        </p:nvPicPr>
        <p:blipFill>
          <a:blip r:embed="rId23"/>
          <a:stretch/>
        </p:blipFill>
        <p:spPr>
          <a:xfrm>
            <a:off x="3348000" y="3933720"/>
            <a:ext cx="312840" cy="30960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24"/>
          <a:stretch/>
        </p:blipFill>
        <p:spPr>
          <a:xfrm>
            <a:off x="1908000" y="4005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25"/>
          <a:stretch/>
        </p:blipFill>
        <p:spPr>
          <a:xfrm>
            <a:off x="2916360" y="6021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26"/>
          <a:stretch/>
        </p:blipFill>
        <p:spPr>
          <a:xfrm>
            <a:off x="5364000" y="4941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27"/>
          <a:stretch/>
        </p:blipFill>
        <p:spPr>
          <a:xfrm>
            <a:off x="7596360" y="3933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28"/>
          <a:stretch/>
        </p:blipFill>
        <p:spPr>
          <a:xfrm>
            <a:off x="6516720" y="4508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29"/>
          <a:stretch/>
        </p:blipFill>
        <p:spPr>
          <a:xfrm>
            <a:off x="4211640" y="551664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0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9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500"/>
                            </p:stCondLst>
                            <p:childTnLst>
                              <p:par>
                                <p:cTn id="7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6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1500"/>
                            </p:stCondLst>
                            <p:childTnLst>
                              <p:par>
                                <p:cTn id="7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0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3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9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5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8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1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3500"/>
                            </p:stCondLst>
                            <p:childTnLst>
                              <p:par>
                                <p:cTn id="7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5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4000"/>
                            </p:stCondLst>
                            <p:childTnLst>
                              <p:par>
                                <p:cTn id="7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4500"/>
                            </p:stCondLst>
                            <p:childTnLst>
                              <p:par>
                                <p:cTn id="7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5000"/>
                            </p:stCondLst>
                            <p:childTnLst>
                              <p:par>
                                <p:cTn id="7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5500"/>
                            </p:stCondLst>
                            <p:childTnLst>
                              <p:par>
                                <p:cTn id="7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6000"/>
                            </p:stCondLst>
                            <p:childTnLst>
                              <p:par>
                                <p:cTn id="773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6000"/>
                            </p:stCondLst>
                            <p:childTnLst>
                              <p:par>
                                <p:cTn id="7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6500"/>
                            </p:stCondLst>
                            <p:childTnLst>
                              <p:par>
                                <p:cTn id="780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6500"/>
                            </p:stCondLst>
                            <p:childTnLst>
                              <p:par>
                                <p:cTn id="7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7000"/>
                            </p:stCondLst>
                            <p:childTnLst>
                              <p:par>
                                <p:cTn id="7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9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7500"/>
                            </p:stCondLst>
                            <p:childTnLst>
                              <p:par>
                                <p:cTn id="7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3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8000"/>
                            </p:stCondLst>
                            <p:childTnLst>
                              <p:par>
                                <p:cTn id="795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8000"/>
                            </p:stCondLst>
                            <p:childTnLst>
                              <p:par>
                                <p:cTn id="7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8500"/>
                            </p:stCondLst>
                            <p:childTnLst>
                              <p:par>
                                <p:cTn id="802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8500"/>
                            </p:stCondLst>
                            <p:childTnLst>
                              <p:par>
                                <p:cTn id="8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9000"/>
                            </p:stCondLst>
                            <p:childTnLst>
                              <p:par>
                                <p:cTn id="8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1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9500"/>
                            </p:stCondLst>
                            <p:childTnLst>
                              <p:par>
                                <p:cTn id="8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5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817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8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10500"/>
                            </p:stCondLst>
                            <p:childTnLst>
                              <p:par>
                                <p:cTn id="824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10500"/>
                            </p:stCondLst>
                            <p:childTnLst>
                              <p:par>
                                <p:cTn id="8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11500"/>
                            </p:stCondLst>
                            <p:childTnLst>
                              <p:par>
                                <p:cTn id="8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839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12000"/>
                            </p:stCondLst>
                            <p:childTnLst>
                              <p:par>
                                <p:cTn id="8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12500"/>
                            </p:stCondLst>
                            <p:childTnLst>
                              <p:par>
                                <p:cTn id="846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2500"/>
                            </p:stCondLst>
                            <p:childTnLst>
                              <p:par>
                                <p:cTn id="8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13000"/>
                            </p:stCondLst>
                            <p:childTnLst>
                              <p:par>
                                <p:cTn id="853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13000"/>
                            </p:stCondLst>
                            <p:childTnLst>
                              <p:par>
                                <p:cTn id="8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13500"/>
                            </p:stCondLst>
                            <p:childTnLst>
                              <p:par>
                                <p:cTn id="860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6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TRATO NACIONAL (MERCADERÍAS) 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xcep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55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pras gubernamentales (artículo III:8 a)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bsidios domésticos (artículo III:8 b)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lículas cinematográficas (artículo III: 10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líticas de desarrollo económico (artículo XVIII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cepciones del artículo X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cepciones de seguridad artículo XX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fill="hold">
                      <p:stCondLst>
                        <p:cond delay="0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73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500"/>
                            </p:stCondLst>
                            <p:childTnLst>
                              <p:par>
                                <p:cTn id="87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77" dur="5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1000"/>
                            </p:stCondLst>
                            <p:childTnLst>
                              <p:par>
                                <p:cTn id="87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81" dur="500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1500"/>
                            </p:stCondLst>
                            <p:childTnLst>
                              <p:par>
                                <p:cTn id="88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85" dur="500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8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89" dur="500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2500"/>
                            </p:stCondLst>
                            <p:childTnLst>
                              <p:par>
                                <p:cTn id="89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93" dur="500"/>
                                        <p:tgtEl>
                                          <p:spTgt spid="5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3000"/>
                            </p:stCondLst>
                            <p:childTnLst>
                              <p:par>
                                <p:cTn id="89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97" dur="500"/>
                                        <p:tgtEl>
                                          <p:spTgt spid="5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3500"/>
                            </p:stCondLst>
                            <p:childTnLst>
                              <p:par>
                                <p:cTn id="89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01" dur="500"/>
                                        <p:tgtEl>
                                          <p:spTgt spid="5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REGIONALISMO EN GATT/OM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OMC permite los acuerdos de comercio preferencia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Las barreras comerciales después de la integración no aumentan en promedio para los países que no son miembros del acuerdo regional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Las tarifas y otras regulaciones son removidas sustancialmente para el comercio intraregional en un periodo razonable de tiempo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Sean notificados a la OMC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fill="hold">
                      <p:stCondLst>
                        <p:cond delay="0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08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500"/>
                            </p:stCondLst>
                            <p:childTnLst>
                              <p:par>
                                <p:cTn id="91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1000"/>
                            </p:stCondLst>
                            <p:childTnLst>
                              <p:par>
                                <p:cTn id="91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1500"/>
                            </p:stCondLst>
                            <p:childTnLst>
                              <p:par>
                                <p:cTn id="92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2000"/>
                            </p:stCondLst>
                            <p:childTnLst>
                              <p:par>
                                <p:cTn id="92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TRATO ESPECIAL Y DIFERENCIAD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25" name=""/>
          <p:cNvSpPr/>
          <p:nvPr/>
        </p:nvSpPr>
        <p:spPr>
          <a:xfrm>
            <a:off x="684360" y="5157720"/>
            <a:ext cx="3166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G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TPD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332000" y="5300640"/>
            <a:ext cx="144360" cy="1297080"/>
          </a:xfrm>
          <a:custGeom>
            <a:avLst/>
            <a:gdLst>
              <a:gd name="textAreaLeft" fmla="*/ 92160 w 144360"/>
              <a:gd name="textAreaRight" fmla="*/ 144360 w 14436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6804000" y="3500280"/>
            <a:ext cx="2219400" cy="308160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900000" y="1773360"/>
            <a:ext cx="4753080" cy="292716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3924360" y="3645000"/>
            <a:ext cx="3598920" cy="1871640"/>
          </a:xfrm>
          <a:custGeom>
            <a:avLst/>
            <a:gdLst/>
            <a:ahLst/>
            <a:rect l="l" t="t" r="r" b="b"/>
            <a:pathLst>
              <a:path w="1451" h="1361">
                <a:moveTo>
                  <a:pt x="1451" y="1361"/>
                </a:moveTo>
                <a:cubicBezTo>
                  <a:pt x="1286" y="1292"/>
                  <a:pt x="703" y="1173"/>
                  <a:pt x="461" y="946"/>
                </a:cubicBezTo>
                <a:cubicBezTo>
                  <a:pt x="219" y="719"/>
                  <a:pt x="96" y="197"/>
                  <a:pt x="0" y="0"/>
                </a:cubicBezTo>
              </a:path>
            </a:pathLst>
          </a:custGeom>
          <a:noFill/>
          <a:ln w="44280">
            <a:solidFill>
              <a:srgbClr val="ffcc66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fill="hold">
                      <p:stCondLst>
                        <p:cond delay="0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3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500"/>
                            </p:stCondLst>
                            <p:childTnLst>
                              <p:par>
                                <p:cTn id="93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39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942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1500"/>
                            </p:stCondLst>
                            <p:childTnLst>
                              <p:par>
                                <p:cTn id="9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6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3500"/>
                            </p:stCondLst>
                            <p:childTnLst>
                              <p:par>
                                <p:cTn id="9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0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4000"/>
                            </p:stCondLst>
                            <p:childTnLst>
                              <p:par>
                                <p:cTn id="952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8" dur="5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4500"/>
                            </p:stCondLst>
                            <p:childTnLst>
                              <p:par>
                                <p:cTn id="96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erdo Multilateral: OMC – Cancú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fill="hold">
                      <p:stCondLst>
                        <p:cond delay="0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73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500"/>
                            </p:stCondLst>
                            <p:childTnLst>
                              <p:par>
                                <p:cTn id="97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77" dur="5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1000"/>
                            </p:stCondLst>
                            <p:childTnLst>
                              <p:par>
                                <p:cTn id="97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81" dur="500"/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1500"/>
                            </p:stCondLst>
                            <p:childTnLst>
                              <p:par>
                                <p:cTn id="98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85" dur="500"/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mpetitive liberalization: negociar bilateralmente para impulsar negociaciones en OM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nfrentar oposición en ALCA Brasil - Mercos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nsideraciones geopolít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etróle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errorism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rog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INTERESES ESTRÁTEGICOS DE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0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92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500"/>
                            </p:stCondLst>
                            <p:childTnLst>
                              <p:par>
                                <p:cTn id="994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0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1450"/>
                            </p:stCondLst>
                            <p:childTnLst>
                              <p:par>
                                <p:cTn id="1002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8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2250"/>
                            </p:stCondLst>
                            <p:childTnLst>
                              <p:par>
                                <p:cTn id="1010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6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2800"/>
                            </p:stCondLst>
                            <p:childTnLst>
                              <p:par>
                                <p:cTn id="1018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4" dur="500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3300"/>
                            </p:stCondLst>
                            <p:childTnLst>
                              <p:par>
                                <p:cTn id="1026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2" dur="500"/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3850"/>
                            </p:stCondLst>
                            <p:childTnLst>
                              <p:par>
                                <p:cTn id="1034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5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5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5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5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0" dur="500"/>
                                        <p:tgtEl>
                                          <p:spTgt spid="5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826920" y="5554800"/>
            <a:ext cx="472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iberalización comercial a través de reducciones arancelarias (solamente medidas en fronter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 rot="2163000">
            <a:off x="3362040" y="4725720"/>
            <a:ext cx="30099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82424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Comercio Mercaderías</a:t>
            </a:r>
            <a:endParaRPr b="1" lang="en-US" sz="4000" spc="1" strike="noStrike">
              <a:ln w="9360">
                <a:solidFill>
                  <a:srgbClr val="882424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cxnSp>
        <p:nvCxnSpPr>
          <p:cNvPr id="536" name=""/>
          <p:cNvCxnSpPr/>
          <p:nvPr/>
        </p:nvCxnSpPr>
        <p:spPr>
          <a:xfrm rot="10800000">
            <a:off x="4500000" y="3067920"/>
            <a:ext cx="1800720" cy="1680120"/>
          </a:xfrm>
          <a:prstGeom prst="curvedConnector5">
            <a:avLst>
              <a:gd name="adj1" fmla="val 49990"/>
              <a:gd name="adj2" fmla="val 50000"/>
              <a:gd name="adj3" fmla="val 49990"/>
            </a:avLst>
          </a:prstGeom>
          <a:ln w="38160">
            <a:solidFill>
              <a:srgbClr val="ffffff"/>
            </a:solidFill>
            <a:prstDash val="dash"/>
            <a:miter/>
          </a:ln>
        </p:spPr>
      </p:cxn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ADO DE LIBRE COMERCIO TRADICION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682560" y="1700280"/>
            <a:ext cx="4176720" cy="259236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2"/>
          <a:stretch/>
        </p:blipFill>
        <p:spPr>
          <a:xfrm>
            <a:off x="682560" y="1700280"/>
            <a:ext cx="4176720" cy="259236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3"/>
          <a:stretch/>
        </p:blipFill>
        <p:spPr>
          <a:xfrm>
            <a:off x="6567480" y="2995560"/>
            <a:ext cx="232560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1" dur="indefinite" restart="never" nodeType="tmRoot">
          <p:childTnLst>
            <p:seq>
              <p:cTn id="1042" dur="indefinite" nodeType="mainSeq">
                <p:childTnLst>
                  <p:par>
                    <p:cTn id="1043" fill="hold">
                      <p:stCondLst>
                        <p:cond delay="0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47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500"/>
                            </p:stCondLst>
                            <p:childTnLst>
                              <p:par>
                                <p:cTn id="10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1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5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9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6443640" y="2421000"/>
            <a:ext cx="2592360" cy="3673440"/>
          </a:xfrm>
          <a:prstGeom prst="rect">
            <a:avLst/>
          </a:prstGeom>
          <a:ln w="0">
            <a:noFill/>
          </a:ln>
        </p:spPr>
      </p:pic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ADOS DE LIBRE COMERCIO ULTIMA GENERACIÓN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2"/>
          <a:stretch/>
        </p:blipFill>
        <p:spPr>
          <a:xfrm>
            <a:off x="108000" y="1824120"/>
            <a:ext cx="4824360" cy="297324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>
            <a:off x="1835280" y="1714680"/>
            <a:ext cx="116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258920" y="476100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ropiedad Intelec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851360" y="1916280"/>
            <a:ext cx="152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4920" y="1628640"/>
            <a:ext cx="1800360" cy="30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ahoma"/>
              </a:rPr>
              <a:t>Otros tema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Competen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Trabaj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Medio ambi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 Commer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Facilitación de Comerc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893880" y="5589720"/>
            <a:ext cx="53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ntegración más profunda incluye temas de regulación interna de los propios Es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 rot="2081400">
            <a:off x="4211280" y="4437000"/>
            <a:ext cx="3097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82424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Comercio Mercaderías</a:t>
            </a:r>
            <a:endParaRPr b="1" lang="en-US" sz="4000" spc="1" strike="noStrike">
              <a:ln w="9360">
                <a:solidFill>
                  <a:srgbClr val="882424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sp>
        <p:nvSpPr>
          <p:cNvPr id="550" name=""/>
          <p:cNvSpPr/>
          <p:nvPr/>
        </p:nvSpPr>
        <p:spPr>
          <a:xfrm flipH="1" flipV="1">
            <a:off x="1080720" y="2396880"/>
            <a:ext cx="971640" cy="817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2052720" y="2206440"/>
            <a:ext cx="0" cy="10062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2052720" y="2493720"/>
            <a:ext cx="1079280" cy="718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052720" y="3213000"/>
            <a:ext cx="0" cy="936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1116000" y="3214800"/>
            <a:ext cx="936720" cy="5778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052720" y="3213000"/>
            <a:ext cx="936720" cy="720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56" name=""/>
          <p:cNvCxnSpPr/>
          <p:nvPr/>
        </p:nvCxnSpPr>
        <p:spPr>
          <a:xfrm rot="10800000">
            <a:off x="5060160" y="3185280"/>
            <a:ext cx="1527840" cy="1467720"/>
          </a:xfrm>
          <a:prstGeom prst="curvedConnector5">
            <a:avLst>
              <a:gd name="adj1" fmla="val 49988"/>
              <a:gd name="adj2" fmla="val 50000"/>
              <a:gd name="adj3" fmla="val 49988"/>
            </a:avLst>
          </a:prstGeom>
          <a:ln cap="sq" w="38160">
            <a:solidFill>
              <a:srgbClr val="ffffff"/>
            </a:solidFill>
            <a:miter/>
          </a:ln>
        </p:spPr>
      </p:cxnSp>
      <p:sp>
        <p:nvSpPr>
          <p:cNvPr id="557" name=""/>
          <p:cNvSpPr/>
          <p:nvPr/>
        </p:nvSpPr>
        <p:spPr>
          <a:xfrm flipH="1" flipV="1">
            <a:off x="6982920" y="3357720"/>
            <a:ext cx="613080" cy="86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7596360" y="3213000"/>
            <a:ext cx="0" cy="1006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7596360" y="3357720"/>
            <a:ext cx="504720" cy="86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596360" y="4221000"/>
            <a:ext cx="0" cy="936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7308360" y="4221000"/>
            <a:ext cx="289080" cy="50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7596360" y="4221000"/>
            <a:ext cx="576000" cy="7923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fill="hold">
                      <p:stCondLst>
                        <p:cond delay="0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7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8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94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7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0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3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6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9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5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8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1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4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0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5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3400"/>
                            </p:stCondLst>
                            <p:childTnLst>
                              <p:par>
                                <p:cTn id="113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3900"/>
                            </p:stCondLst>
                            <p:childTnLst>
                              <p:par>
                                <p:cTn id="114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2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fill="hold">
                            <p:stCondLst>
                              <p:cond delay="4900"/>
                            </p:stCondLst>
                            <p:childTnLst>
                              <p:par>
                                <p:cTn id="11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6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fill="hold">
                            <p:stCondLst>
                              <p:cond delay="6900"/>
                            </p:stCondLst>
                            <p:childTnLst>
                              <p:par>
                                <p:cTn id="1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0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324000" y="3645000"/>
            <a:ext cx="31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COMERCIO BIE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974120" y="2222640"/>
            <a:ext cx="21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eglas de ori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757840" y="2960640"/>
            <a:ext cx="320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dministración Aduane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757840" y="4292640"/>
            <a:ext cx="26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didas sanitarias y fitosanitar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3348000" y="1699920"/>
            <a:ext cx="93672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317840" y="1522440"/>
            <a:ext cx="23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cceso al merc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038560" y="5121360"/>
            <a:ext cx="349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Obstáculos técnicos al comer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3564000" y="2418840"/>
            <a:ext cx="143964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3745080" y="3139560"/>
            <a:ext cx="1979280" cy="600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745080" y="3943440"/>
            <a:ext cx="1979280" cy="601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565440" y="4124160"/>
            <a:ext cx="1438200" cy="1221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348000" y="4232160"/>
            <a:ext cx="93492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317840" y="5840280"/>
            <a:ext cx="202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fensa comer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LC con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0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67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16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5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1650"/>
                            </p:stCondLst>
                            <p:childTnLst>
                              <p:par>
                                <p:cTn id="117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81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8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2850"/>
                            </p:stCondLst>
                            <p:childTnLst>
                              <p:par>
                                <p:cTn id="119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94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1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07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4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5" fill="hold">
                            <p:stCondLst>
                              <p:cond delay="5550"/>
                            </p:stCondLst>
                            <p:childTnLst>
                              <p:par>
                                <p:cTn id="121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18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23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4" fill="hold">
                            <p:stCondLst>
                              <p:cond delay="6050"/>
                            </p:stCondLst>
                            <p:childTnLst>
                              <p:par>
                                <p:cTn id="122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27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32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fill="hold">
                            <p:stCondLst>
                              <p:cond delay="6550"/>
                            </p:stCondLst>
                            <p:childTnLst>
                              <p:par>
                                <p:cTn id="123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36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41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erdo Multilateral: OMC – Cancú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5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395280" y="3608280"/>
            <a:ext cx="165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NUEVOS TE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2158920" y="2251080"/>
            <a:ext cx="1440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778200" y="1989000"/>
            <a:ext cx="45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ercio transfronterizo de 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498920" y="288936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elecomunic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218200" y="3789360"/>
            <a:ext cx="273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ercio electrón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857840" y="423864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olítica de Compet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2158920" y="1377720"/>
            <a:ext cx="719280" cy="21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059280" y="1089000"/>
            <a:ext cx="33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19640" y="153972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4138560" y="24382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rvicios financie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857840" y="3338640"/>
            <a:ext cx="428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ntrada temporal personas nego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497480" y="4687920"/>
            <a:ext cx="417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rechos de propiedad intelec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138560" y="513864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abo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778200" y="558792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dio ambi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2158920" y="2673000"/>
            <a:ext cx="180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2158920" y="3105000"/>
            <a:ext cx="215892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417840" y="6037200"/>
            <a:ext cx="20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ranspar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057480" y="6488280"/>
            <a:ext cx="32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olución de controvers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158920" y="396864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158920" y="4040280"/>
            <a:ext cx="25210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158920" y="4113360"/>
            <a:ext cx="2158920" cy="71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158920" y="4184640"/>
            <a:ext cx="180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158920" y="4255920"/>
            <a:ext cx="1440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158920" y="4329000"/>
            <a:ext cx="107964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158920" y="4471920"/>
            <a:ext cx="719280" cy="21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2158920" y="3536640"/>
            <a:ext cx="25192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2158920" y="1809360"/>
            <a:ext cx="107964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LC con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2" dur="indefinite" restart="never" nodeType="tmRoot">
          <p:childTnLst>
            <p:seq>
              <p:cTn id="1243" dur="indefinite" nodeType="mainSeq">
                <p:childTnLst>
                  <p:par>
                    <p:cTn id="1244" fill="hold">
                      <p:stCondLst>
                        <p:cond delay="0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48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9" fill="hold">
                            <p:stCondLst>
                              <p:cond delay="500"/>
                            </p:stCondLst>
                            <p:childTnLst>
                              <p:par>
                                <p:cTn id="125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2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6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8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6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fill="hold">
                            <p:stCondLst>
                              <p:cond delay="2050"/>
                            </p:stCondLst>
                            <p:childTnLst>
                              <p:par>
                                <p:cTn id="1270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8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fill="hold">
                            <p:stCondLst>
                              <p:cond delay="2550"/>
                            </p:stCondLst>
                            <p:childTnLst>
                              <p:par>
                                <p:cTn id="1282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0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fill="hold">
                            <p:stCondLst>
                              <p:cond delay="3200"/>
                            </p:stCondLst>
                            <p:childTnLst>
                              <p:par>
                                <p:cTn id="1294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2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3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fill="hold">
                            <p:stCondLst>
                              <p:cond delay="3750"/>
                            </p:stCondLst>
                            <p:childTnLst>
                              <p:par>
                                <p:cTn id="130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4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5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7" fill="hold">
                            <p:stCondLst>
                              <p:cond delay="4250"/>
                            </p:stCondLst>
                            <p:childTnLst>
                              <p:par>
                                <p:cTn id="1318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6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4900"/>
                            </p:stCondLst>
                            <p:childTnLst>
                              <p:par>
                                <p:cTn id="1330" nodeType="afterEffect" fill="hold" presetClass="entr" presetID="2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2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9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0" fill="hold">
                            <p:stCondLst>
                              <p:cond delay="5450"/>
                            </p:stCondLst>
                            <p:childTnLst>
                              <p:par>
                                <p:cTn id="1341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45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6050"/>
                            </p:stCondLst>
                            <p:childTnLst>
                              <p:par>
                                <p:cTn id="1351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55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8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fill="hold">
                            <p:stCondLst>
                              <p:cond delay="6700"/>
                            </p:stCondLst>
                            <p:childTnLst>
                              <p:par>
                                <p:cTn id="1361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65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fill="hold">
                            <p:stCondLst>
                              <p:cond delay="7200"/>
                            </p:stCondLst>
                            <p:childTnLst>
                              <p:par>
                                <p:cTn id="1371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75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8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0" fill="hold">
                            <p:stCondLst>
                              <p:cond delay="7750"/>
                            </p:stCondLst>
                            <p:childTnLst>
                              <p:par>
                                <p:cTn id="1381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85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8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0" fill="hold">
                            <p:stCondLst>
                              <p:cond delay="8250"/>
                            </p:stCondLst>
                            <p:childTnLst>
                              <p:par>
                                <p:cTn id="1391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95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0" dur="indefinite" restart="never" nodeType="tmRoot">
          <p:childTnLst>
            <p:seq>
              <p:cTn id="1401" dur="indefinite" nodeType="mainSeq">
                <p:childTnLst>
                  <p:par>
                    <p:cTn id="1402" fill="hold">
                      <p:stCondLst>
                        <p:cond delay="0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08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ortaciones a EE.UU.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07" name=""/>
          <p:cNvSpPr/>
          <p:nvPr/>
        </p:nvSpPr>
        <p:spPr>
          <a:xfrm>
            <a:off x="7024320" y="2690640"/>
            <a:ext cx="35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EE.UU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7682400" y="269064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Tota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8295480" y="2690640"/>
            <a:ext cx="639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art. EE.UU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8516160" y="2870280"/>
            <a:ext cx="165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%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805000" y="3036960"/>
            <a:ext cx="290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ffffff"/>
                </a:solidFill>
                <a:latin typeface="Verdana"/>
              </a:rPr>
              <a:t>Tota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996240" y="303696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,348.0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7633080" y="303696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8,806.2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8454240" y="30369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6.6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804640" y="3203640"/>
            <a:ext cx="709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Tradicionale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996240" y="320364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,321.6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633080" y="320364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,199.9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8454240" y="32036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1.3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788080" y="3370320"/>
            <a:ext cx="438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iner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7094520" y="337032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993.3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7633080" y="337032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,512.6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8454240" y="33703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2.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795280" y="3537000"/>
            <a:ext cx="56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esquer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227360" y="353700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.4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731000" y="353700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818.7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8484480" y="353700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0.4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822280" y="3703680"/>
            <a:ext cx="1096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etróleo y derivad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7094520" y="37036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54.2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7731000" y="37036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55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8454240" y="37036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8.8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5797800" y="3870360"/>
            <a:ext cx="491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Agrícola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7160400" y="3870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70.6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7731000" y="387036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13.3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8454240" y="3870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3.1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800680" y="4037040"/>
            <a:ext cx="744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anufactura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6996240" y="403704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,026.3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7633080" y="403704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,606.3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8454240" y="40370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9.38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798880" y="4203720"/>
            <a:ext cx="727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Agropecuari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7094520" y="420372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98.2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7731000" y="420372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16.1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8454240" y="42037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2.1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796000" y="437040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Texti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7094520" y="437040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515.98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7731000" y="437040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817.2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8454240" y="437040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3.1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5793120" y="4537080"/>
            <a:ext cx="508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esquer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7160400" y="45370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3.6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7731000" y="45370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08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8454240" y="45370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0.9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792040" y="4703760"/>
            <a:ext cx="44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Quím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7160400" y="47037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2.3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7731000" y="470376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12.5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8454240" y="47037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3.5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5810040" y="4870440"/>
            <a:ext cx="8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etal-mecán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7160400" y="48704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4.7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7797240" y="48704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96.2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8454240" y="48704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5.7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5792760" y="5035680"/>
            <a:ext cx="1023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Sidero-metalúrg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7160400" y="50356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8.8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7731000" y="50356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90.9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8454240" y="50356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5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816880" y="5202360"/>
            <a:ext cx="1059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inería no metálica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7160400" y="5202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0.2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7797240" y="5202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72.2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8454240" y="5202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55.68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803920" y="5369040"/>
            <a:ext cx="56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Artesanía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7227360" y="536904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0.75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7863840" y="536904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.2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8454240" y="53690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2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5817240" y="5535720"/>
            <a:ext cx="1003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aderas y papele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7160400" y="55357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2.6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7731000" y="553572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71.0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8454240" y="55357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6.6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815800" y="5702400"/>
            <a:ext cx="788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ieles y cuer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7227360" y="570240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7797240" y="570240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5.2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8454240" y="570240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6.4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5827680" y="5865840"/>
            <a:ext cx="1009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Varios (inc. Joyería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7160400" y="58658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4.7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7797240" y="58658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95.3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8454240" y="58658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7.88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5841000" y="6111720"/>
            <a:ext cx="1996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Verdana"/>
              </a:rPr>
              <a:t>Fuente: SUNAT</a:t>
            </a:r>
            <a:r>
              <a:rPr b="0" lang="es-MX" sz="8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0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127200" y="2514600"/>
            <a:ext cx="2736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articipación de EE.UU. en las Exportaciones (2003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7072920" y="2870280"/>
            <a:ext cx="928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millones de US$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5730840" y="2662200"/>
            <a:ext cx="3295800" cy="2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858000" y="2838600"/>
            <a:ext cx="2168640" cy="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5730840" y="3178080"/>
            <a:ext cx="3295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730840" y="3178080"/>
            <a:ext cx="32958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730840" y="3344760"/>
            <a:ext cx="3295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5730840" y="3344760"/>
            <a:ext cx="32958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730840" y="4011480"/>
            <a:ext cx="3295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5730840" y="4011480"/>
            <a:ext cx="32958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5730840" y="4178160"/>
            <a:ext cx="3295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5730840" y="4178160"/>
            <a:ext cx="32958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5730840" y="6013440"/>
            <a:ext cx="3295800" cy="2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3924360" y="2421000"/>
            <a:ext cx="1600200" cy="550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Verdana"/>
              </a:rPr>
              <a:t>El 40% del total de nuestras manufacturas van a EE.UU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8" name="" descr=""/>
          <p:cNvPicPr/>
          <p:nvPr/>
        </p:nvPicPr>
        <p:blipFill>
          <a:blip r:embed="rId1"/>
          <a:stretch/>
        </p:blipFill>
        <p:spPr>
          <a:xfrm>
            <a:off x="755640" y="3191040"/>
            <a:ext cx="4775040" cy="254304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>
            <a:off x="900000" y="5661000"/>
            <a:ext cx="40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0" name=""/>
          <p:cNvGrpSpPr/>
          <p:nvPr/>
        </p:nvGrpSpPr>
        <p:grpSpPr>
          <a:xfrm>
            <a:off x="1141920" y="1752480"/>
            <a:ext cx="7323840" cy="4809240"/>
            <a:chOff x="1141920" y="1752480"/>
            <a:chExt cx="7323840" cy="4809240"/>
          </a:xfrm>
        </p:grpSpPr>
        <p:sp>
          <p:nvSpPr>
            <p:cNvPr id="701" name=""/>
            <p:cNvSpPr/>
            <p:nvPr/>
          </p:nvSpPr>
          <p:spPr>
            <a:xfrm>
              <a:off x="1509840" y="4028040"/>
              <a:ext cx="365760" cy="11170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180240" y="3158640"/>
              <a:ext cx="366840" cy="1986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849920" y="3308400"/>
              <a:ext cx="366840" cy="18367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522840" y="3824640"/>
              <a:ext cx="376560" cy="1320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875960" y="2728800"/>
              <a:ext cx="366840" cy="2416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547440" y="2342160"/>
              <a:ext cx="365400" cy="2802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217120" y="2653920"/>
              <a:ext cx="376200" cy="2491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899400" y="2954880"/>
              <a:ext cx="366480" cy="2189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48572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401120" y="514512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401120" y="459648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401120" y="404928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401120" y="3502440"/>
              <a:ext cx="536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401120" y="2944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401120" y="2395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401120" y="184680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455120" y="5145120"/>
              <a:ext cx="66945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14551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 flipV="1">
              <a:off x="229680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 flipV="1">
              <a:off x="31262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 flipV="1">
              <a:off x="396648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 flipV="1">
              <a:off x="47977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 flipV="1">
              <a:off x="563796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 flipV="1">
              <a:off x="646740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 flipV="1">
              <a:off x="73184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 flipV="1">
              <a:off x="814968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814968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8094240" y="514512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8094240" y="47800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8094240" y="44146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8094240" y="40492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8094240" y="3684240"/>
              <a:ext cx="98280" cy="2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8094240" y="330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8094240" y="29444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8094240" y="258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8094240" y="22136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8094240" y="1846800"/>
              <a:ext cx="9828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875960" y="2031840"/>
              <a:ext cx="5854320" cy="2705040"/>
            </a:xfrm>
            <a:custGeom>
              <a:avLst/>
              <a:gdLst/>
              <a:ahLst/>
              <a:rect l="l" t="t" r="r" b="b"/>
              <a:pathLst>
                <a:path w="543" h="252">
                  <a:moveTo>
                    <a:pt x="0" y="0"/>
                  </a:moveTo>
                  <a:lnTo>
                    <a:pt x="77" y="237"/>
                  </a:lnTo>
                  <a:lnTo>
                    <a:pt x="155" y="252"/>
                  </a:lnTo>
                  <a:lnTo>
                    <a:pt x="232" y="205"/>
                  </a:lnTo>
                  <a:lnTo>
                    <a:pt x="310" y="197"/>
                  </a:lnTo>
                  <a:lnTo>
                    <a:pt x="387" y="149"/>
                  </a:lnTo>
                  <a:lnTo>
                    <a:pt x="466" y="86"/>
                  </a:lnTo>
                  <a:lnTo>
                    <a:pt x="543" y="32"/>
                  </a:lnTo>
                </a:path>
              </a:pathLst>
            </a:custGeom>
            <a:noFill/>
            <a:ln w="381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811520" y="1966320"/>
              <a:ext cx="12888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640960" y="4512600"/>
              <a:ext cx="130320" cy="126720"/>
            </a:xfrm>
            <a:custGeom>
              <a:avLst/>
              <a:gdLst/>
              <a:ahLst/>
              <a:rect l="l" t="t" r="r" b="b"/>
              <a:pathLst>
                <a:path w="73" h="72">
                  <a:moveTo>
                    <a:pt x="36" y="0"/>
                  </a:moveTo>
                  <a:lnTo>
                    <a:pt x="73" y="36"/>
                  </a:lnTo>
                  <a:lnTo>
                    <a:pt x="36" y="72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481200" y="4673160"/>
              <a:ext cx="128880" cy="12960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6"/>
                  </a:lnTo>
                  <a:lnTo>
                    <a:pt x="37" y="73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312440" y="4167000"/>
              <a:ext cx="128880" cy="1299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152680" y="4082760"/>
              <a:ext cx="130320" cy="12852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6"/>
                  </a:lnTo>
                  <a:lnTo>
                    <a:pt x="36" y="73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983560" y="3566520"/>
              <a:ext cx="12924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7"/>
                  </a:lnTo>
                  <a:lnTo>
                    <a:pt x="36" y="73"/>
                  </a:lnTo>
                  <a:lnTo>
                    <a:pt x="0" y="37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834600" y="2890800"/>
              <a:ext cx="11844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664400" y="2311560"/>
              <a:ext cx="11952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237680" y="5047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141920" y="4500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14192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141920" y="34059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14192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141920" y="22978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14192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 rot="16200000">
              <a:off x="1668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 rot="16200000">
              <a:off x="249804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 rot="16200000">
              <a:off x="33523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 rot="16200000">
              <a:off x="4183560" y="53100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7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 rot="16200000">
              <a:off x="5022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 rot="16200000">
              <a:off x="5850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9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 rot="16200000">
              <a:off x="6690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 rot="16200000">
              <a:off x="75247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8267040" y="50475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8267040" y="467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8267040" y="43077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826704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8267040" y="35773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8267040" y="3213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826704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8267040" y="24829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8267040" y="21157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826704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997360" y="5929200"/>
              <a:ext cx="366840" cy="1069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387600" y="5865120"/>
              <a:ext cx="3181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Línea 1 - SEDESO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997360" y="6166440"/>
              <a:ext cx="366840" cy="117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391920" y="6102360"/>
              <a:ext cx="2158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CEP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997360" y="6444720"/>
              <a:ext cx="354960" cy="25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126240" y="6401880"/>
              <a:ext cx="96840" cy="9612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30" y="0"/>
                  </a:moveTo>
                  <a:lnTo>
                    <a:pt x="54" y="25"/>
                  </a:lnTo>
                  <a:lnTo>
                    <a:pt x="30" y="55"/>
                  </a:lnTo>
                  <a:lnTo>
                    <a:pt x="0" y="25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384360" y="6348240"/>
              <a:ext cx="3364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alarios reales en dólares (eje derecho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9" name=""/>
          <p:cNvSpPr/>
          <p:nvPr/>
        </p:nvSpPr>
        <p:spPr>
          <a:xfrm>
            <a:off x="2133720" y="1460520"/>
            <a:ext cx="5181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Tasa de pobreza y salarios reales en México 1994 - 2001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en porcentajes y dólar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1327320" y="623880"/>
            <a:ext cx="6970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eriencia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82" name=""/>
          <p:cNvSpPr/>
          <p:nvPr/>
        </p:nvSpPr>
        <p:spPr>
          <a:xfrm>
            <a:off x="2220840" y="3103560"/>
            <a:ext cx="1800" cy="1736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2163600" y="4840200"/>
            <a:ext cx="1130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163600" y="459756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2163600" y="4336920"/>
            <a:ext cx="1130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163600" y="409428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2163600" y="385128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2163600" y="3608280"/>
            <a:ext cx="1130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2163600" y="334656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2163600" y="310356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2220840" y="4840200"/>
            <a:ext cx="59929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2220840" y="4784400"/>
            <a:ext cx="180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 flipV="1">
            <a:off x="297036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 flipV="1">
            <a:off x="371952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446724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5216400" y="4784400"/>
            <a:ext cx="180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 flipV="1">
            <a:off x="596592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 flipV="1">
            <a:off x="6715080" y="4784400"/>
            <a:ext cx="180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 flipV="1">
            <a:off x="746460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 flipV="1">
            <a:off x="821376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595600" y="3309840"/>
            <a:ext cx="5243400" cy="989280"/>
          </a:xfrm>
          <a:custGeom>
            <a:avLst/>
            <a:gdLst/>
            <a:ahLst/>
            <a:rect l="l" t="t" r="r" b="b"/>
            <a:pathLst>
              <a:path w="280" h="53">
                <a:moveTo>
                  <a:pt x="0" y="0"/>
                </a:moveTo>
                <a:lnTo>
                  <a:pt x="40" y="9"/>
                </a:lnTo>
                <a:lnTo>
                  <a:pt x="80" y="33"/>
                </a:lnTo>
                <a:lnTo>
                  <a:pt x="120" y="39"/>
                </a:lnTo>
                <a:lnTo>
                  <a:pt x="160" y="49"/>
                </a:lnTo>
                <a:lnTo>
                  <a:pt x="200" y="53"/>
                </a:lnTo>
                <a:lnTo>
                  <a:pt x="240" y="50"/>
                </a:lnTo>
                <a:lnTo>
                  <a:pt x="280" y="46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538360" y="3252960"/>
            <a:ext cx="112680" cy="1126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3287880" y="3421080"/>
            <a:ext cx="112680" cy="1126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4037040" y="3868560"/>
            <a:ext cx="112680" cy="11304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4786200" y="3981600"/>
            <a:ext cx="112680" cy="1126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5535720" y="4168800"/>
            <a:ext cx="112680" cy="11124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6284880" y="4243320"/>
            <a:ext cx="111240" cy="11124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7032600" y="4186080"/>
            <a:ext cx="112680" cy="11304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7781760" y="4111560"/>
            <a:ext cx="113040" cy="1126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4147560" y="2617920"/>
            <a:ext cx="2195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Tasa de Desempl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808040" y="366408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7152480" y="373860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6515640" y="381312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5766480" y="379404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5110920" y="360828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3.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4361400" y="353376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3.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2713680" y="289872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6.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688560" y="319716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5.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1824120" y="47102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1824120" y="44672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824120" y="420516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1824120" y="396252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3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1824120" y="371952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1824120" y="347652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1824120" y="32162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6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1824120" y="29732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245700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320652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395424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470340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545256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620208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695124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200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770076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200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1631880" y="5470560"/>
            <a:ext cx="6674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Verdana"/>
              </a:rPr>
              <a:t>Fuente: Instituto Nacional de Estadística, Geografía e Informática de Méxic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837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391520" cy="4452840"/>
          </a:xfrm>
          <a:prstGeom prst="rect">
            <a:avLst/>
          </a:prstGeom>
          <a:ln w="0">
            <a:noFill/>
          </a:ln>
        </p:spPr>
      </p:pic>
      <p:sp>
        <p:nvSpPr>
          <p:cNvPr id="838" name=""/>
          <p:cNvSpPr/>
          <p:nvPr/>
        </p:nvSpPr>
        <p:spPr>
          <a:xfrm>
            <a:off x="1905120" y="6400800"/>
            <a:ext cx="723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Verdana"/>
              </a:rPr>
              <a:t>Fuente: U.S. Census Bureau, Foreign Trade Division; Statistics Canada; </a:t>
            </a: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Secretaría de Economía de Méx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ESTÁNDARES LABOR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íses industrializados que respetan estándares laborales altos están en desventaja de costos frente a los que tienen estándares más baj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íses industrializados y menos desarrollados tienen diferentes estándares labora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adecuada legislación labor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Falta de cumplimiento de la legislación laboral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iferencia de prioridades soci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9" dur="indefinite" restart="never" nodeType="tmRoot">
          <p:childTnLst>
            <p:seq>
              <p:cTn id="1410" dur="indefinite" nodeType="mainSeq">
                <p:childTnLst>
                  <p:par>
                    <p:cTn id="1411" fill="hold">
                      <p:stCondLst>
                        <p:cond delay="0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15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6" fill="hold">
                            <p:stCondLst>
                              <p:cond delay="500"/>
                            </p:stCondLst>
                            <p:childTnLst>
                              <p:par>
                                <p:cTn id="141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19" dur="500"/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23" dur="500"/>
                                        <p:tgtEl>
                                          <p:spTgt spid="8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27" dur="500"/>
                                        <p:tgtEl>
                                          <p:spTgt spid="8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31" dur="500"/>
                                        <p:tgtEl>
                                          <p:spTgt spid="8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2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35" dur="500"/>
                                        <p:tgtEl>
                                          <p:spTgt spid="8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ESTÁNDARES LABOR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espeto principios fundamentales OI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derecho de asociación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derecho de organizarse y negociar colectivament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la prohibición del uso de cualquier forma de trabajo forzoso u obligatorio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una edad mínima para el empleo de niños, y la prohibición y eliminación de las peores formas de trabajo infantil; 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condiciones aceptables de trabajo respecto a salarios mínimos, horas de trabajo y seguridad y salud ocupacion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umplimiento de la legislación laboral como compromis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6" dur="indefinite" restart="never" nodeType="tmRoot">
          <p:childTnLst>
            <p:seq>
              <p:cTn id="1437" dur="indefinite" nodeType="mainSeq">
                <p:childTnLst>
                  <p:par>
                    <p:cTn id="1438" fill="hold">
                      <p:stCondLst>
                        <p:cond delay="0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42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6" dur="500"/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0" dur="500"/>
                                        <p:tgtEl>
                                          <p:spTgt spid="8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4" dur="500"/>
                                        <p:tgtEl>
                                          <p:spTgt spid="8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8" dur="500"/>
                                        <p:tgtEl>
                                          <p:spTgt spid="8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2" dur="500"/>
                                        <p:tgtEl>
                                          <p:spTgt spid="8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6" dur="500"/>
                                        <p:tgtEl>
                                          <p:spTgt spid="8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7" fill="hold">
                            <p:stCondLst>
                              <p:cond delay="3500"/>
                            </p:stCondLst>
                            <p:childTnLst>
                              <p:par>
                                <p:cTn id="14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0" dur="500"/>
                                        <p:tgtEl>
                                          <p:spTgt spid="8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SECTOR AGRÍCOL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mercio agrícola y distorsion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Unión Europea, Japón y Estados Unidos principales países que otorgan subsidios a la exportación y ayudas internas a productos agrícol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Foro de solución TLC u OM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pasaría si EEUU elimina sus ayudas internas a los productos agrícolas en TLC y no se avanza en negociaciones OM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1" dur="indefinite" restart="never" nodeType="tmRoot">
          <p:childTnLst>
            <p:seq>
              <p:cTn id="1472" dur="indefinite" nodeType="mainSeq">
                <p:childTnLst>
                  <p:par>
                    <p:cTn id="1473" fill="hold">
                      <p:stCondLst>
                        <p:cond delay="0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77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8" fill="hold">
                            <p:stCondLst>
                              <p:cond delay="500"/>
                            </p:stCondLst>
                            <p:childTnLst>
                              <p:par>
                                <p:cTn id="147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1" dur="500" fill="hold"/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500" fill="hold"/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500" fill="hold"/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500" fill="hold"/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8" dur="500" fill="hold"/>
                                        <p:tgtEl>
                                          <p:spTgt spid="8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500" fill="hold"/>
                                        <p:tgtEl>
                                          <p:spTgt spid="8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500" fill="hold"/>
                                        <p:tgtEl>
                                          <p:spTgt spid="8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8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5" dur="500" fill="hold"/>
                                        <p:tgtEl>
                                          <p:spTgt spid="8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500" fill="hold"/>
                                        <p:tgtEl>
                                          <p:spTgt spid="8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500" fill="hold"/>
                                        <p:tgtEl>
                                          <p:spTgt spid="8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500" fill="hold"/>
                                        <p:tgtEl>
                                          <p:spTgt spid="8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2" dur="500" fill="hold"/>
                                        <p:tgtEl>
                                          <p:spTgt spid="8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500" fill="hold"/>
                                        <p:tgtEl>
                                          <p:spTgt spid="8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4" dur="500" fill="hold"/>
                                        <p:tgtEl>
                                          <p:spTgt spid="8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500" fill="hold"/>
                                        <p:tgtEl>
                                          <p:spTgt spid="8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FORMAS Y APERTURA COMERCIAL EN LOS 90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4219200" y="226692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44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19200" y="255420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3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19200" y="280656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37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19200" y="305748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46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84880" y="4335480"/>
            <a:ext cx="154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Fuente: Rossini (1991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27360" y="1906560"/>
            <a:ext cx="339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dde5"/>
                </a:solidFill>
                <a:latin typeface="Tahoma"/>
              </a:rPr>
              <a:t>Estructura de Protección (Julio 1990</a:t>
            </a:r>
            <a:r>
              <a:rPr b="0" lang="es-MX" sz="1400" spc="-1" strike="noStrike">
                <a:solidFill>
                  <a:srgbClr val="ffdde5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4280" y="2266920"/>
            <a:ext cx="263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romedio ponderado aranc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08920" y="2554200"/>
            <a:ext cx="181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Bienes de consum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440" y="280656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Insum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1880" y="3057480"/>
            <a:ext cx="159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Bienes de capit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15760" y="3346560"/>
            <a:ext cx="256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romedio simple arancel (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19200" y="334656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66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6320" y="3633840"/>
            <a:ext cx="181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artidas prohibid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04080" y="363384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53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93440" y="3957480"/>
            <a:ext cx="191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artidas restringid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04080" y="39574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53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98560" y="255420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98560" y="363384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98560" y="395748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500720" y="3940200"/>
          <a:ext cx="4581360" cy="28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940200"/>
                    <a:ext cx="458136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5078520" y="350820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dde5"/>
                </a:solidFill>
                <a:latin typeface="Tahoma"/>
              </a:rPr>
              <a:t>Evolución del Promedio Arancela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53120" y="4641840"/>
            <a:ext cx="2050920" cy="1008000"/>
          </a:xfrm>
          <a:prstGeom prst="line">
            <a:avLst/>
          </a:prstGeom>
          <a:ln w="76320">
            <a:solidFill>
              <a:srgbClr val="ff99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SECTOR AGRÍCOL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cantidad de productos agrícolas americanos ingresan al Perú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De dónde importa productos agrícolas el Perú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6" dur="indefinite" restart="never" nodeType="tmRoot">
          <p:childTnLst>
            <p:seq>
              <p:cTn id="1507" dur="indefinite" nodeType="mainSeq">
                <p:childTnLst>
                  <p:par>
                    <p:cTn id="1508" fill="hold">
                      <p:stCondLst>
                        <p:cond delay="0"/>
                      </p:stCondLst>
                      <p:childTnLst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12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3" fill="hold">
                            <p:stCondLst>
                              <p:cond delay="500"/>
                            </p:stCondLst>
                            <p:childTnLst>
                              <p:par>
                                <p:cTn id="15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6" dur="500"/>
                                        <p:tgtEl>
                                          <p:spTgt spid="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0" dur="500"/>
                                        <p:tgtEl>
                                          <p:spTgt spid="8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PROPIEDAD INTELECTU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elación OMC/TL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Principi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Protección a corto plazo de la propiedad intelectual contribuye  a la innovación técnica y la transferencia de tecnologí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Los conocimientos técnicos deben beneficiar tanto a los productores como a los usuarios y acrecentar el bienestar económico y soci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Medicamentos baratos: limitaciones a licencias obligatorias e importaciones paralela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es biopiratería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El Pisco es peruano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1" dur="indefinite" restart="never" nodeType="tmRoot">
          <p:childTnLst>
            <p:seq>
              <p:cTn id="1522" dur="indefinite" nodeType="mainSeq">
                <p:childTnLst>
                  <p:par>
                    <p:cTn id="1523" fill="hold">
                      <p:stCondLst>
                        <p:cond delay="0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27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8" fill="hold">
                            <p:stCondLst>
                              <p:cond delay="500"/>
                            </p:stCondLst>
                            <p:childTnLst>
                              <p:par>
                                <p:cTn id="152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1" dur="500" fill="hold"/>
                                        <p:tgtEl>
                                          <p:spTgt spid="8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500" fill="hold"/>
                                        <p:tgtEl>
                                          <p:spTgt spid="8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6" dur="500" fill="hold"/>
                                        <p:tgtEl>
                                          <p:spTgt spid="8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500" fill="hold"/>
                                        <p:tgtEl>
                                          <p:spTgt spid="8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8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500" fill="hold"/>
                                        <p:tgtEl>
                                          <p:spTgt spid="8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6" dur="500" fill="hold"/>
                                        <p:tgtEl>
                                          <p:spTgt spid="8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7" dur="500" fill="hold"/>
                                        <p:tgtEl>
                                          <p:spTgt spid="8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1" dur="500" fill="hold"/>
                                        <p:tgtEl>
                                          <p:spTgt spid="8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500" fill="hold"/>
                                        <p:tgtEl>
                                          <p:spTgt spid="8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6" dur="500" fill="hold"/>
                                        <p:tgtEl>
                                          <p:spTgt spid="8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8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fill="hold">
                            <p:stCondLst>
                              <p:cond delay="3500"/>
                            </p:stCondLst>
                            <p:childTnLst>
                              <p:par>
                                <p:cTn id="15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1" dur="500" fill="hold"/>
                                        <p:tgtEl>
                                          <p:spTgt spid="8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8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Filosofía proteccionista: nuestro dinero debe ser gastado en nuestras mercaderías para asegurar nuestro trabaj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1970: Presupuestos de los gobiernos aumentaron por salud, educación y pension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ubir impuestos / Reducir cost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stimularon la competencia entre proveedores del Estado en sus licitaciones por compras estatales y permitieron el ingreso de proveedores extranjer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3" dur="indefinite" restart="never" nodeType="tmRoot">
          <p:childTnLst>
            <p:seq>
              <p:cTn id="1564" dur="indefinite" nodeType="mainSeq">
                <p:childTnLst>
                  <p:par>
                    <p:cTn id="1565" fill="hold">
                      <p:stCondLst>
                        <p:cond delay="0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69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0" fill="hold">
                            <p:stCondLst>
                              <p:cond delay="500"/>
                            </p:stCondLst>
                            <p:childTnLst>
                              <p:par>
                                <p:cTn id="157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73" dur="500"/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77" dur="500"/>
                                        <p:tgtEl>
                                          <p:spTgt spid="8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81" dur="500"/>
                                        <p:tgtEl>
                                          <p:spTgt spid="8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85" dur="500"/>
                                        <p:tgtEl>
                                          <p:spTgt spid="8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Preferencias sectoriales vs. Menor gasto estatal (menores impuestos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rrupción vs. No - discrimin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6" dur="indefinite" restart="never" nodeType="tmRoot">
          <p:childTnLst>
            <p:seq>
              <p:cTn id="1587" dur="indefinite" nodeType="mainSeq">
                <p:childTnLst>
                  <p:par>
                    <p:cTn id="1588" fill="hold">
                      <p:stCondLst>
                        <p:cond delay="0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92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3" fill="hold">
                            <p:stCondLst>
                              <p:cond delay="500"/>
                            </p:stCondLst>
                            <p:childTnLst>
                              <p:par>
                                <p:cTn id="159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6" dur="500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0" dur="500"/>
                                        <p:tgtEl>
                                          <p:spTgt spid="8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L PROTECCIONISMO ES RECESIV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288144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80 - 198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2944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85 - 19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972040" y="2949480"/>
            <a:ext cx="1046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90 -19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56000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95 - 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81880" y="4389480"/>
            <a:ext cx="32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P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46560" y="438948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0.4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9420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1.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4040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4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2476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51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32560" y="4786200"/>
            <a:ext cx="129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Agropecua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46560" y="478620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9420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0.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4040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4.2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02476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94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9840" y="5181480"/>
            <a:ext cx="72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Minerí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346560" y="518148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0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9420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7.6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4040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.0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02476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.5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32560" y="5576760"/>
            <a:ext cx="122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Manufactu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346560" y="557676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2.1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9420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1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44040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3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02476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0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70480" y="6297480"/>
            <a:ext cx="244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Fuente: INEI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96040" y="2209680"/>
            <a:ext cx="3969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Tahoma"/>
              </a:rPr>
              <a:t>CRECIMIENTO PROMEDIO ANUA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43440" y="2587680"/>
            <a:ext cx="1474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Tahoma"/>
              </a:rPr>
              <a:t>POR SECTO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14560" y="3238560"/>
            <a:ext cx="77374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14560" y="5973840"/>
            <a:ext cx="77374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19960" y="3417840"/>
            <a:ext cx="1703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Arancel promed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(fin de period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46560" y="3598920"/>
            <a:ext cx="71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3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9420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6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4040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6.3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02476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3.5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03040" y="3994200"/>
            <a:ext cx="213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Dispersión arancelar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346560" y="3994200"/>
            <a:ext cx="71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89420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4040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02476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5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500"/>
                            </p:stCondLst>
                            <p:childTnLst>
                              <p:par>
                                <p:cTn id="2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6000"/>
                            </p:stCondLst>
                            <p:childTnLst>
                              <p:par>
                                <p:cTn id="2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Tahom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946160" y="2027160"/>
            <a:ext cx="6784920" cy="2863800"/>
            <a:chOff x="1946160" y="2027160"/>
            <a:chExt cx="6784920" cy="2863800"/>
          </a:xfrm>
        </p:grpSpPr>
        <p:sp>
          <p:nvSpPr>
            <p:cNvPr id="188" name=""/>
            <p:cNvSpPr/>
            <p:nvPr/>
          </p:nvSpPr>
          <p:spPr>
            <a:xfrm>
              <a:off x="2112840" y="4116240"/>
              <a:ext cx="14400" cy="1065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127240" y="4116240"/>
              <a:ext cx="15840" cy="1065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43080" y="4116240"/>
              <a:ext cx="14400" cy="1065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57480" y="4116240"/>
              <a:ext cx="15840" cy="1065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73320" y="4116240"/>
              <a:ext cx="15840" cy="1065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189160" y="4116240"/>
              <a:ext cx="14400" cy="1065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203560" y="4116240"/>
              <a:ext cx="29880" cy="1065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233440" y="4116240"/>
              <a:ext cx="16200" cy="1065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249640" y="4116240"/>
              <a:ext cx="14040" cy="1065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263680" y="4116240"/>
              <a:ext cx="15840" cy="1065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279520" y="4116240"/>
              <a:ext cx="14400" cy="1065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127240" y="4132440"/>
              <a:ext cx="19836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598840" y="4208400"/>
              <a:ext cx="14040" cy="144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612880" y="4208400"/>
              <a:ext cx="16200" cy="144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29080" y="4208400"/>
              <a:ext cx="140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643120" y="4208400"/>
              <a:ext cx="1584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658960" y="4208400"/>
              <a:ext cx="1440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673360" y="4208400"/>
              <a:ext cx="1584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689200" y="4208400"/>
              <a:ext cx="15840" cy="14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70504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71944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735280" y="4208400"/>
              <a:ext cx="1440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749680" y="4208400"/>
              <a:ext cx="158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612880" y="4222800"/>
              <a:ext cx="18288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068640" y="4222800"/>
              <a:ext cx="15840" cy="4608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084480" y="4222800"/>
              <a:ext cx="14400" cy="4608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098880" y="4222800"/>
              <a:ext cx="15840" cy="460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14720" y="4222800"/>
              <a:ext cx="14400" cy="4608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29120" y="4222800"/>
              <a:ext cx="15840" cy="460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144960" y="4222800"/>
              <a:ext cx="14040" cy="460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59000" y="4222800"/>
              <a:ext cx="30240" cy="4608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189240" y="4222800"/>
              <a:ext cx="15840" cy="460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05080" y="4222800"/>
              <a:ext cx="15840" cy="460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220920" y="4222800"/>
              <a:ext cx="14400" cy="4608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35320" y="4222800"/>
              <a:ext cx="15840" cy="460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84480" y="4238640"/>
              <a:ext cx="196920" cy="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54280" y="4222800"/>
              <a:ext cx="14400" cy="1062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68680" y="4222800"/>
              <a:ext cx="15840" cy="10620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84520" y="4222800"/>
              <a:ext cx="15840" cy="10620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600360" y="4222800"/>
              <a:ext cx="14400" cy="10620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614760" y="4222800"/>
              <a:ext cx="15840" cy="10620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630600" y="4222800"/>
              <a:ext cx="14400" cy="10620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645000" y="4222800"/>
              <a:ext cx="30240" cy="10620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675240" y="4222800"/>
              <a:ext cx="15840" cy="10620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691080" y="4222800"/>
              <a:ext cx="14040" cy="10620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05120" y="4222800"/>
              <a:ext cx="15840" cy="10620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720960" y="4222800"/>
              <a:ext cx="15840" cy="10620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568680" y="4238640"/>
              <a:ext cx="19836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040280" y="4222800"/>
              <a:ext cx="14040" cy="16668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054320" y="4222800"/>
              <a:ext cx="16200" cy="16668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070520" y="4222800"/>
              <a:ext cx="14040" cy="1666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84560" y="4222800"/>
              <a:ext cx="15840" cy="16668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100400" y="4222800"/>
              <a:ext cx="15840" cy="1666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16240" y="4222800"/>
              <a:ext cx="14400" cy="1666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30640" y="4222800"/>
              <a:ext cx="30240" cy="16668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60880" y="4222800"/>
              <a:ext cx="15840" cy="1666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76720" y="4222800"/>
              <a:ext cx="14400" cy="1666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91120" y="4222800"/>
              <a:ext cx="15840" cy="16668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206960" y="4222800"/>
              <a:ext cx="15840" cy="1666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054320" y="4238640"/>
              <a:ext cx="19872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25920" y="4222800"/>
              <a:ext cx="14400" cy="3492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540320" y="4222800"/>
              <a:ext cx="15840" cy="3492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56160" y="4222800"/>
              <a:ext cx="14400" cy="3492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570560" y="4222800"/>
              <a:ext cx="15840" cy="3492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586400" y="4222800"/>
              <a:ext cx="14040" cy="3492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00440" y="4222800"/>
              <a:ext cx="15840" cy="3492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616280" y="4222800"/>
              <a:ext cx="16200" cy="3492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632480" y="4222800"/>
              <a:ext cx="14040" cy="3492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46520" y="4222800"/>
              <a:ext cx="15840" cy="3492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62360" y="4222800"/>
              <a:ext cx="14400" cy="3492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676760" y="4222800"/>
              <a:ext cx="15840" cy="3492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540320" y="4238640"/>
              <a:ext cx="18252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995720" y="4222800"/>
              <a:ext cx="15840" cy="3189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011560" y="4222800"/>
              <a:ext cx="14400" cy="3189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025960" y="4222800"/>
              <a:ext cx="15840" cy="3189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041800" y="4222800"/>
              <a:ext cx="14400" cy="3189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056200" y="4222800"/>
              <a:ext cx="15840" cy="3189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072040" y="4222800"/>
              <a:ext cx="14400" cy="3189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086440" y="4222800"/>
              <a:ext cx="31680" cy="3189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118120" y="4222800"/>
              <a:ext cx="14400" cy="3189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132520" y="4222800"/>
              <a:ext cx="15840" cy="3189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148360" y="4222800"/>
              <a:ext cx="14040" cy="3189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162400" y="4222800"/>
              <a:ext cx="16200" cy="3189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011560" y="4238640"/>
              <a:ext cx="1969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81720" y="4222800"/>
              <a:ext cx="14040" cy="2570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95760" y="4222800"/>
              <a:ext cx="16200" cy="257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511960" y="4222800"/>
              <a:ext cx="15840" cy="257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527800" y="4222800"/>
              <a:ext cx="14040" cy="25704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41840" y="4222800"/>
              <a:ext cx="15840" cy="257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557680" y="4222800"/>
              <a:ext cx="14400" cy="257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572080" y="4222800"/>
              <a:ext cx="30240" cy="257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602320" y="4222800"/>
              <a:ext cx="15840" cy="257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618160" y="4222800"/>
              <a:ext cx="15840" cy="257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34000" y="4222800"/>
              <a:ext cx="14400" cy="25704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648400" y="4222800"/>
              <a:ext cx="15840" cy="257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495760" y="4238640"/>
              <a:ext cx="19872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967360" y="4222800"/>
              <a:ext cx="14400" cy="3794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981760" y="4222800"/>
              <a:ext cx="15840" cy="37944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997600" y="4222800"/>
              <a:ext cx="15840" cy="37944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13440" y="4222800"/>
              <a:ext cx="14400" cy="37944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027840" y="4222800"/>
              <a:ext cx="15840" cy="3794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043680" y="4222800"/>
              <a:ext cx="14400" cy="37944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58080" y="4222800"/>
              <a:ext cx="15840" cy="3794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73920" y="4222800"/>
              <a:ext cx="14040" cy="37944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087960" y="4222800"/>
              <a:ext cx="15840" cy="3794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103800" y="4222800"/>
              <a:ext cx="14400" cy="37944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118200" y="4222800"/>
              <a:ext cx="15840" cy="37944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981760" y="4238640"/>
              <a:ext cx="1825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437160" y="4222800"/>
              <a:ext cx="16200" cy="1220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453360" y="4222800"/>
              <a:ext cx="14040" cy="122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467400" y="4222800"/>
              <a:ext cx="15840" cy="122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83240" y="4222800"/>
              <a:ext cx="14400" cy="12204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497640" y="4222800"/>
              <a:ext cx="15840" cy="122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513480" y="4222800"/>
              <a:ext cx="1584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529320" y="4222800"/>
              <a:ext cx="30240" cy="122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559560" y="4222800"/>
              <a:ext cx="1440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573960" y="4222800"/>
              <a:ext cx="15840" cy="122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589800" y="4222800"/>
              <a:ext cx="14040" cy="12204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03840" y="4222800"/>
              <a:ext cx="16200" cy="122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453360" y="4238640"/>
              <a:ext cx="196560" cy="1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923160" y="4222800"/>
              <a:ext cx="15840" cy="903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939000" y="4222800"/>
              <a:ext cx="14400" cy="903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53400" y="4222800"/>
              <a:ext cx="15840" cy="903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969240" y="4222800"/>
              <a:ext cx="14040" cy="903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983280" y="4222800"/>
              <a:ext cx="15840" cy="903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999120" y="4222800"/>
              <a:ext cx="14400" cy="903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013520" y="4222800"/>
              <a:ext cx="31680" cy="903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045200" y="4222800"/>
              <a:ext cx="14400" cy="903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59600" y="4222800"/>
              <a:ext cx="15840" cy="903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075440" y="4222800"/>
              <a:ext cx="14400" cy="903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089840" y="4222800"/>
              <a:ext cx="15840" cy="903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939000" y="4238640"/>
              <a:ext cx="19692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408800" y="4222800"/>
              <a:ext cx="15840" cy="6012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424640" y="4222800"/>
              <a:ext cx="14400" cy="6012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439040" y="4222800"/>
              <a:ext cx="15840" cy="601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454880" y="4222800"/>
              <a:ext cx="14400" cy="6012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469280" y="4222800"/>
              <a:ext cx="15840" cy="601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485120" y="4222800"/>
              <a:ext cx="14400" cy="601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499520" y="4222800"/>
              <a:ext cx="29880" cy="6012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529400" y="4222800"/>
              <a:ext cx="15840" cy="601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545240" y="4222800"/>
              <a:ext cx="16200" cy="601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561440" y="4222800"/>
              <a:ext cx="14040" cy="6012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575480" y="4222800"/>
              <a:ext cx="15840" cy="601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424640" y="4238640"/>
              <a:ext cx="196920" cy="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894800" y="4208400"/>
              <a:ext cx="14040" cy="144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908840" y="4208400"/>
              <a:ext cx="15840" cy="144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924680" y="4208400"/>
              <a:ext cx="158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940520" y="4208400"/>
              <a:ext cx="1440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95492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97076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985160" y="4208400"/>
              <a:ext cx="15840" cy="14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00100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01540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031240" y="4208400"/>
              <a:ext cx="1404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045280" y="4208400"/>
              <a:ext cx="1620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908840" y="4222800"/>
              <a:ext cx="18252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364600" y="4146480"/>
              <a:ext cx="15840" cy="7632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380440" y="4146480"/>
              <a:ext cx="14400" cy="7632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394840" y="4146480"/>
              <a:ext cx="15840" cy="763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410680" y="4146480"/>
              <a:ext cx="14040" cy="7632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424720" y="4146480"/>
              <a:ext cx="15840" cy="763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440560" y="4146480"/>
              <a:ext cx="16200" cy="763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456760" y="4146480"/>
              <a:ext cx="29880" cy="7632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486640" y="4146480"/>
              <a:ext cx="14400" cy="763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501040" y="4146480"/>
              <a:ext cx="15840" cy="763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516880" y="4146480"/>
              <a:ext cx="14400" cy="7632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531280" y="4146480"/>
              <a:ext cx="15840" cy="763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380440" y="4162320"/>
              <a:ext cx="196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990800" y="2617920"/>
              <a:ext cx="1440" cy="2271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946160" y="48895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946160" y="457200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946160" y="423864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946160" y="391968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946160" y="35863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946160" y="326880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946160" y="293544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46160" y="26179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990800" y="4238640"/>
              <a:ext cx="67388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19908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247644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29480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34322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391788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40388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487512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535932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584532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631656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680256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72882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77724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82440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87296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233440" y="2784600"/>
              <a:ext cx="6253200" cy="923760"/>
            </a:xfrm>
            <a:custGeom>
              <a:avLst/>
              <a:gdLst/>
              <a:ahLst/>
              <a:rect l="l" t="t" r="r" b="b"/>
              <a:pathLst>
                <a:path w="412" h="61">
                  <a:moveTo>
                    <a:pt x="0" y="61"/>
                  </a:moveTo>
                  <a:lnTo>
                    <a:pt x="32" y="60"/>
                  </a:lnTo>
                  <a:lnTo>
                    <a:pt x="63" y="58"/>
                  </a:lnTo>
                  <a:lnTo>
                    <a:pt x="95" y="60"/>
                  </a:lnTo>
                  <a:lnTo>
                    <a:pt x="127" y="49"/>
                  </a:lnTo>
                  <a:lnTo>
                    <a:pt x="158" y="38"/>
                  </a:lnTo>
                  <a:lnTo>
                    <a:pt x="190" y="33"/>
                  </a:lnTo>
                  <a:lnTo>
                    <a:pt x="222" y="24"/>
                  </a:lnTo>
                  <a:lnTo>
                    <a:pt x="254" y="35"/>
                  </a:lnTo>
                  <a:lnTo>
                    <a:pt x="285" y="31"/>
                  </a:lnTo>
                  <a:lnTo>
                    <a:pt x="317" y="22"/>
                  </a:lnTo>
                  <a:lnTo>
                    <a:pt x="349" y="22"/>
                  </a:lnTo>
                  <a:lnTo>
                    <a:pt x="380" y="14"/>
                  </a:lnTo>
                  <a:lnTo>
                    <a:pt x="412" y="0"/>
                  </a:lnTo>
                </a:path>
              </a:pathLst>
            </a:custGeom>
            <a:noFill/>
            <a:ln w="460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233440" y="2874960"/>
              <a:ext cx="6253200" cy="954000"/>
            </a:xfrm>
            <a:custGeom>
              <a:avLst/>
              <a:gdLst/>
              <a:ahLst/>
              <a:rect l="l" t="t" r="r" b="b"/>
              <a:pathLst>
                <a:path w="412" h="63">
                  <a:moveTo>
                    <a:pt x="0" y="63"/>
                  </a:moveTo>
                  <a:lnTo>
                    <a:pt x="32" y="56"/>
                  </a:lnTo>
                  <a:lnTo>
                    <a:pt x="63" y="50"/>
                  </a:lnTo>
                  <a:lnTo>
                    <a:pt x="95" y="47"/>
                  </a:lnTo>
                  <a:lnTo>
                    <a:pt x="127" y="32"/>
                  </a:lnTo>
                  <a:lnTo>
                    <a:pt x="158" y="9"/>
                  </a:lnTo>
                  <a:lnTo>
                    <a:pt x="190" y="7"/>
                  </a:lnTo>
                  <a:lnTo>
                    <a:pt x="222" y="0"/>
                  </a:lnTo>
                  <a:lnTo>
                    <a:pt x="254" y="4"/>
                  </a:lnTo>
                  <a:lnTo>
                    <a:pt x="285" y="18"/>
                  </a:lnTo>
                  <a:lnTo>
                    <a:pt x="317" y="10"/>
                  </a:lnTo>
                  <a:lnTo>
                    <a:pt x="349" y="11"/>
                  </a:lnTo>
                  <a:lnTo>
                    <a:pt x="380" y="9"/>
                  </a:lnTo>
                  <a:lnTo>
                    <a:pt x="412" y="0"/>
                  </a:lnTo>
                </a:path>
              </a:pathLst>
            </a:custGeom>
            <a:noFill/>
            <a:ln w="4608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490920" y="2027160"/>
              <a:ext cx="2718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PERU : INTERNATIONAL TRAD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42760" y="2254320"/>
              <a:ext cx="1027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US$ Millon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059560" y="384480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686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545560" y="393552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147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96280" y="4359240"/>
              <a:ext cx="328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(221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3482280" y="441972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679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891960" y="447984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049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333400" y="457200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591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365160" y="443556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691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850800" y="440532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558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841520" y="393552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136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8312760" y="387504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484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317480" y="476892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2,135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923720" y="479916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925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336800" y="437508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387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941440" y="473868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2,358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182600" y="4782960"/>
            <a:ext cx="538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(4,000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182600" y="4465800"/>
            <a:ext cx="538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(2,000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592280" y="413244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254600" y="381492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2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254600" y="348156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4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254600" y="316224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6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254600" y="282888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8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139040" y="2511360"/>
            <a:ext cx="520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10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rot="18900000">
            <a:off x="17571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rot="18900000">
            <a:off x="22428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18900000">
            <a:off x="27144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rot="18900000">
            <a:off x="31986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rot="18900000">
            <a:off x="368424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4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rot="18900000">
            <a:off x="415584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5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18900000">
            <a:off x="464148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6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rot="18900000">
            <a:off x="51271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rot="18900000">
            <a:off x="56113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8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rot="18900000">
            <a:off x="60829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9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18900000">
            <a:off x="65685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rot="18900000">
            <a:off x="70545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18900000">
            <a:off x="75243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18900000">
            <a:off x="80103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920960" y="5614920"/>
            <a:ext cx="108000" cy="90720"/>
          </a:xfrm>
          <a:prstGeom prst="rect">
            <a:avLst/>
          </a:prstGeom>
          <a:solidFill>
            <a:srgbClr val="a98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028960" y="5614920"/>
            <a:ext cx="179280" cy="90720"/>
          </a:xfrm>
          <a:prstGeom prst="rect">
            <a:avLst/>
          </a:prstGeom>
          <a:solidFill>
            <a:srgbClr val="f6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406960" y="5556240"/>
            <a:ext cx="1338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TRADE BALANC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813200" y="5646600"/>
            <a:ext cx="409680" cy="1800"/>
          </a:xfrm>
          <a:prstGeom prst="line">
            <a:avLst/>
          </a:prstGeom>
          <a:ln w="46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290920" y="555624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EXPOR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983280" y="5646600"/>
            <a:ext cx="409680" cy="1800"/>
          </a:xfrm>
          <a:prstGeom prst="line">
            <a:avLst/>
          </a:prstGeom>
          <a:ln w="46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458120" y="5556240"/>
            <a:ext cx="750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IMPOR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73320" y="5614920"/>
            <a:ext cx="108000" cy="90720"/>
          </a:xfrm>
          <a:prstGeom prst="rect">
            <a:avLst/>
          </a:prstGeom>
          <a:solidFill>
            <a:srgbClr val="a98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3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45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3500"/>
                            </p:stCondLst>
                            <p:childTnLst>
                              <p:par>
                                <p:cTn id="39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45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4000"/>
                            </p:stCondLst>
                            <p:childTnLst>
                              <p:par>
                                <p:cTn id="40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45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4500"/>
                            </p:stCondLst>
                            <p:childTnLst>
                              <p:par>
                                <p:cTn id="4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30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Tahom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971640" y="1835280"/>
            <a:ext cx="759276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25092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971640" y="1835280"/>
          <a:ext cx="7592760" cy="428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835280"/>
                    <a:ext cx="7592760" cy="42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Fuente: BCRP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43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Comparación entre Chile, Colombia y Perú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4724280" y="1779480"/>
          <a:ext cx="4135680" cy="260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779480"/>
                    <a:ext cx="4135680" cy="26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"/>
          <p:cNvSpPr/>
          <p:nvPr/>
        </p:nvSpPr>
        <p:spPr>
          <a:xfrm>
            <a:off x="6781680" y="4365720"/>
            <a:ext cx="2590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Penn World Tabl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Método: Precios constantes en %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987840" y="6338880"/>
            <a:ext cx="2247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CEPAL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3"/>
          <a:stretch/>
        </p:blipFill>
        <p:spPr>
          <a:xfrm>
            <a:off x="762120" y="3649680"/>
            <a:ext cx="464796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6:13:51Z</dcterms:created>
  <dc:creator>jore</dc:creator>
  <dc:description/>
  <dc:language>en-US</dc:language>
  <cp:lastModifiedBy>disasi</cp:lastModifiedBy>
  <dcterms:modified xsi:type="dcterms:W3CDTF">2004-08-10T16:35:17Z</dcterms:modified>
  <cp:revision>656</cp:revision>
  <dc:subject/>
  <dc:title>COMEXPERU Presentación Institucion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35228822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>web</vt:lpwstr>
  </property>
  <property fmtid="{D5CDD505-2E9C-101B-9397-08002B2CF9AE}" pid="6" name="_PreviousAdHocReviewCycleID">
    <vt:r8>-768413957</vt:r8>
  </property>
</Properties>
</file>